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6BA0-EBA4-4F92-86DD-6717EEB94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CBCA-E10F-4456-A421-72C019BD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39C8-3DD2-40C1-87DF-5395913F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F45A-633B-4CDC-820F-CB2BE525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71B5-7986-4C41-90A3-EEF21C77A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0428-9949-410F-AC01-A86C9DCF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2FC3-CEB9-477D-96C4-1BEBFEED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8AFC-51E2-41E9-97F3-20AD1B3B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2082-0EEF-43CA-8193-6FFAF6DF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A1B7-5412-458B-AC0E-3FC85C1F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45A3-0525-4D0E-8BBE-C97E4286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10F8-61DA-4713-9F59-2FA05E47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F98D-98FE-4322-B36A-5A940680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06CC-AAF9-4BCE-BB5C-8A50FE74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C401-0AD3-49AD-AB60-A68E5136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B3AA-0783-4162-86CC-35D09E69F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57D2-F0CB-4A26-B29A-A98FA949B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0CA72-F6F2-4760-BF1C-6DEBE728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EA7E7-AF8C-465E-82DB-82CBDC57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B70AB-4573-4919-8C88-DCAD19C1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7DE0D-6028-4F70-BEC3-FCCAD29B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C72D5-83B1-476C-A056-D8259EBF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49B6-849C-439F-BF3E-CD234212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5B498-A3CB-44B1-97B5-89123484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57CD9-D9F4-4697-8B14-60C7EDB5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2DE44-A938-49EF-9745-19747392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EC6AF-0E33-40F2-BE00-5615C1C8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40F3B-4CE4-47BC-AA83-69980BA2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49D72-BCB5-4249-B30B-9663F07C5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CB10E-DF9C-4ECD-9252-DD915EC0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D89B6-B430-4EFE-B239-B4274A06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1EF79-3712-49D0-8699-A274EA29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08F30-0BDE-458F-88BB-5D0A6AB5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F859-BDE5-4E9D-82A6-8AE0AB4A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7D54B-EF0B-4A30-8FF2-09080F17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9F86D-BD89-4948-A700-458BEFD1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AAE3E-016C-482C-AFC9-9484EECA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51BBE-9997-4490-8C09-14BE132E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020E7-1EB9-4C46-8244-78A67F36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39697-267D-49AF-9E66-2E6C3642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9F83B-2D18-4990-B05C-F91CE451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1F806-9A10-46A3-96BF-F07F1C718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16EF2-8D1E-48E4-B4A8-52E01F00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527C-9E66-4182-979B-6D6A0A7A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BBD3-80BC-432C-9130-DBDC4B45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6051-B3DA-43E2-86CA-78C34261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F02C-C88E-44B8-9A38-9479D438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9647-E38E-4169-B2ED-AD87C418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593D-C6A8-4CB2-B5E7-346898D0220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54B3-75E1-48FA-9983-01A98176910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E34C-0293-47DA-932A-8C0F0DE56D2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70C5-B3F7-4886-8F64-FC8AB93A0F2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3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30880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aniel Evans and April Lamb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1" descr=""/>
          <p:cNvPicPr/>
          <p:nvPr/>
        </p:nvPicPr>
        <p:blipFill>
          <a:blip r:embed="rId2"/>
          <a:srcRect l="12502" t="19913" r="37503" b="33625"/>
          <a:stretch/>
        </p:blipFill>
        <p:spPr>
          <a:xfrm>
            <a:off x="228600" y="3733920"/>
            <a:ext cx="41148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rcRect l="0" t="0" r="44355" b="0"/>
          <a:stretch/>
        </p:blipFill>
        <p:spPr>
          <a:xfrm>
            <a:off x="0" y="0"/>
            <a:ext cx="9144000" cy="68166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6"/>
          <p:cNvSpPr/>
          <p:nvPr/>
        </p:nvSpPr>
        <p:spPr>
          <a:xfrm>
            <a:off x="2666880" y="53352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ight click on the Desktop and sel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TI Catalyst(R) Control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Right Arrow 7"/>
          <p:cNvGrpSpPr/>
          <p:nvPr/>
        </p:nvGrpSpPr>
        <p:grpSpPr>
          <a:xfrm>
            <a:off x="2822400" y="1639800"/>
            <a:ext cx="1743120" cy="682560"/>
            <a:chOff x="2822400" y="1639800"/>
            <a:chExt cx="1743120" cy="682560"/>
          </a:xfrm>
        </p:grpSpPr>
        <p:pic>
          <p:nvPicPr>
            <p:cNvPr id="203" name="Right Arrow 7" descr=""/>
            <p:cNvPicPr/>
            <p:nvPr/>
          </p:nvPicPr>
          <p:blipFill>
            <a:blip r:embed="rId2"/>
            <a:stretch/>
          </p:blipFill>
          <p:spPr>
            <a:xfrm>
              <a:off x="2822400" y="1639800"/>
              <a:ext cx="17431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2895480" y="1809720"/>
              <a:ext cx="14670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grpSp>
        <p:nvGrpSpPr>
          <p:cNvPr id="208" name="Right Arrow 4"/>
          <p:cNvGrpSpPr/>
          <p:nvPr/>
        </p:nvGrpSpPr>
        <p:grpSpPr>
          <a:xfrm>
            <a:off x="920880" y="2633760"/>
            <a:ext cx="1736640" cy="676080"/>
            <a:chOff x="920880" y="2633760"/>
            <a:chExt cx="1736640" cy="676080"/>
          </a:xfrm>
        </p:grpSpPr>
        <p:pic>
          <p:nvPicPr>
            <p:cNvPr id="209" name="Right Arrow 4" descr=""/>
            <p:cNvPicPr/>
            <p:nvPr/>
          </p:nvPicPr>
          <p:blipFill>
            <a:blip r:embed="rId2"/>
            <a:stretch/>
          </p:blipFill>
          <p:spPr>
            <a:xfrm>
              <a:off x="920880" y="2633760"/>
              <a:ext cx="173664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990720" y="2800440"/>
              <a:ext cx="14666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Box 5"/>
          <p:cNvSpPr/>
          <p:nvPr/>
        </p:nvSpPr>
        <p:spPr>
          <a:xfrm>
            <a:off x="5791320" y="2057400"/>
            <a:ext cx="3352680" cy="642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alibri"/>
              </a:rPr>
              <a:t>Select Advanc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rcRect l="0" t="0" r="44119" b="0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grpSp>
        <p:nvGrpSpPr>
          <p:cNvPr id="215" name="Right Arrow 4"/>
          <p:cNvGrpSpPr/>
          <p:nvPr/>
        </p:nvGrpSpPr>
        <p:grpSpPr>
          <a:xfrm>
            <a:off x="6102360" y="2401920"/>
            <a:ext cx="1736640" cy="682560"/>
            <a:chOff x="6102360" y="2401920"/>
            <a:chExt cx="1736640" cy="682560"/>
          </a:xfrm>
        </p:grpSpPr>
        <p:pic>
          <p:nvPicPr>
            <p:cNvPr id="216" name="Right Arrow 4" descr=""/>
            <p:cNvPicPr/>
            <p:nvPr/>
          </p:nvPicPr>
          <p:blipFill>
            <a:blip r:embed="rId2"/>
            <a:stretch/>
          </p:blipFill>
          <p:spPr>
            <a:xfrm>
              <a:off x="6102360" y="2401920"/>
              <a:ext cx="17366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0800000">
              <a:off x="6305040" y="2571480"/>
              <a:ext cx="14670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Box 5"/>
          <p:cNvSpPr/>
          <p:nvPr/>
        </p:nvSpPr>
        <p:spPr>
          <a:xfrm>
            <a:off x="2529360" y="5181480"/>
            <a:ext cx="412164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Click on 2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Screen  and select “Yes</a:t>
            </a: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rcRect l="0" t="0" r="44119" b="0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grpSp>
        <p:nvGrpSpPr>
          <p:cNvPr id="222" name="Right Arrow 4"/>
          <p:cNvGrpSpPr/>
          <p:nvPr/>
        </p:nvGrpSpPr>
        <p:grpSpPr>
          <a:xfrm>
            <a:off x="4803840" y="2249640"/>
            <a:ext cx="1743120" cy="682560"/>
            <a:chOff x="4803840" y="2249640"/>
            <a:chExt cx="1743120" cy="682560"/>
          </a:xfrm>
        </p:grpSpPr>
        <p:pic>
          <p:nvPicPr>
            <p:cNvPr id="223" name="Right Arrow 4" descr=""/>
            <p:cNvPicPr/>
            <p:nvPr/>
          </p:nvPicPr>
          <p:blipFill>
            <a:blip r:embed="rId2"/>
            <a:stretch/>
          </p:blipFill>
          <p:spPr>
            <a:xfrm>
              <a:off x="4803840" y="2249640"/>
              <a:ext cx="17431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 rot="10800000">
              <a:off x="5009760" y="2418840"/>
              <a:ext cx="14670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Box 5"/>
          <p:cNvSpPr/>
          <p:nvPr/>
        </p:nvSpPr>
        <p:spPr>
          <a:xfrm>
            <a:off x="4648320" y="15228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Right Click on Desktop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rcRect l="0" t="0" r="4444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9" name="Right Arrow 4"/>
          <p:cNvGrpSpPr/>
          <p:nvPr/>
        </p:nvGrpSpPr>
        <p:grpSpPr>
          <a:xfrm>
            <a:off x="2975040" y="2481120"/>
            <a:ext cx="1743120" cy="676440"/>
            <a:chOff x="2975040" y="2481120"/>
            <a:chExt cx="1743120" cy="676440"/>
          </a:xfrm>
        </p:grpSpPr>
        <p:pic>
          <p:nvPicPr>
            <p:cNvPr id="230" name="Right Arrow 4" descr=""/>
            <p:cNvPicPr/>
            <p:nvPr/>
          </p:nvPicPr>
          <p:blipFill>
            <a:blip r:embed="rId2"/>
            <a:stretch/>
          </p:blipFill>
          <p:spPr>
            <a:xfrm>
              <a:off x="2975040" y="2481120"/>
              <a:ext cx="174312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3048120" y="2647800"/>
              <a:ext cx="14666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Box 5"/>
          <p:cNvSpPr/>
          <p:nvPr/>
        </p:nvSpPr>
        <p:spPr>
          <a:xfrm>
            <a:off x="2209680" y="5181480"/>
            <a:ext cx="449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Select “Clone Desktop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With digital panel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9:00:20Z</dcterms:created>
  <dc:creator>evansd</dc:creator>
  <dc:description/>
  <dc:language>en-US</dc:language>
  <cp:lastModifiedBy>evansd</cp:lastModifiedBy>
  <dcterms:modified xsi:type="dcterms:W3CDTF">2010-08-11T20:07:41Z</dcterms:modified>
  <cp:revision>16</cp:revision>
  <dc:subject/>
  <dc:title>Slide 1</dc:title>
</cp:coreProperties>
</file>